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D7C4-BB4A-4C83-827C-3006BBA1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267-B205-4789-80AD-5EB07995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2ACB-42C0-4E97-9C6B-9B0C8011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83A-374C-4CAF-9275-1A0AC71A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CEF-1A6C-4371-A6CE-B20C33CF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41E-8FB1-4CF7-AAA2-CBA4026D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96CF-DAE4-46EE-A099-F369AD20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150-D1A9-4798-B285-B0682787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586-A3E2-4DF4-A551-E92FBA74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9A6A-A8B1-4E1D-B68A-55B67C74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09A-C5BA-42FC-9170-12ECCA74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25A-8959-48BE-97FB-0761014B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E7E0-FA13-4E33-A86F-CC72704B83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colife.ru/infos/news/373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1"/>
          <p:cNvSpPr txBox="1"/>
          <p:nvPr/>
        </p:nvSpPr>
        <p:spPr>
          <a:xfrm>
            <a:off x="990720" y="1905120"/>
            <a:ext cx="7772400" cy="17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банизация населения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733920" y="54097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: Сметанин Михаи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удент: 231 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банизация, с одной стороны, улучшает условия жизни населения, с другой - приводит к вытеснению природных, естественных систем искусственными, загрязнению окружающей среды, повышению химической, физической и психической нагрузки на живые организмы.Крупный город изменяет почти все компоненты природной среды - атмосферу, растительность, почву, подземные воды, грунт и даже климат, а также электрическое, магнитное и другие физические поля Земли. Перепады температур, относительной влажности, солнечной радиации между городом и его окрестностями иногда соизмеримы с передвижением в естественных условиях на 20 град. По широте, причём изменение одних природных условий неизменно вызывает изменение других. По данным исследований, проведённых в Англии и США, большие города получают на 15% меньше солнечной радиации (и на 30% меньше ультрафиолетовых лучей в зимнее время), на 10% больше осадков, на 10% больше облачных дней, на 30% больше тумана летом и на 100% зимой. Съёмки из космоса дают сведения о физических полях, возникающих вокруг больших городов, в частн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666880" y="304920"/>
            <a:ext cx="4114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БЛЕМЫ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c4f2"/>
                </a:solidFill>
                <a:latin typeface="Arial Black"/>
              </a:rPr>
              <a:t>        </a:t>
            </a:r>
            <a:r>
              <a:rPr b="1" i="1" lang="en-US" sz="2400" spc="-1" strike="noStrike" u="sng">
                <a:solidFill>
                  <a:srgbClr val="e0c4f2"/>
                </a:solidFill>
                <a:uFillTx/>
                <a:latin typeface="Arial Black"/>
              </a:rPr>
              <a:t>ИСПОЛЬЗОВАННАЯ  ЛИТЕРАТУР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0c4f2"/>
                </a:solidFill>
                <a:latin typeface="Arial"/>
              </a:rPr>
              <a:t>1.www.hmn.ru/index.php?index=14&amp;value=1&amp;page=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0c4f2"/>
                </a:solidFill>
                <a:latin typeface="Arial"/>
              </a:rPr>
              <a:t>2.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ecolife.ru/infos/news/373/</a:t>
            </a:r>
            <a:r>
              <a:rPr b="0" lang="ru-RU" sz="3200" spc="-1" strike="noStrike">
                <a:solidFill>
                  <a:srgbClr val="e0c4f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0c4f2"/>
                </a:solidFill>
                <a:latin typeface="Arial"/>
              </a:rPr>
              <a:t>3. ecoportal.ru/news.php?id=360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0c4f2"/>
                </a:solidFill>
                <a:latin typeface="Arial"/>
              </a:rPr>
              <a:t>4. ww.souz.co.il/news/read.html? warticle=6006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сновополагающий вопрос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лияет ли рост городов на экологию планет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Проблемные вопросы</a:t>
            </a:r>
            <a:r>
              <a:rPr b="0" i="1" lang="en-US" sz="32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Как влияет рост городов на экологию планет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2) Как распад СССР отразился на русской дерев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3) сколько времени осталось жить Русской дерев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9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банизация населения - процесс повышения роли городов в развитии общества. Предпосылки урбанизации – рост в городах промышленности, развитие их культурных и политических функций, углубление территориального разделения труда. Для урбанизации  характерны приток в города  сельского населения и возвращающее маятниковое движение населения из сельского окружения и близ лежащих малых городов в крупные города( на работу, по культурно - бытовым надобностям и пр..) Процесс  обратный урбанизации называется  рурализаци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2666880" y="609480"/>
            <a:ext cx="304344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ислов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b8fe"/>
                </a:solidFill>
                <a:latin typeface="Arial Black"/>
              </a:rPr>
              <a:t>          </a:t>
            </a:r>
            <a:r>
              <a:rPr b="1" lang="en-US" sz="3200" spc="-1" strike="noStrike" u="sng">
                <a:solidFill>
                  <a:srgbClr val="c2b8fe"/>
                </a:solidFill>
                <a:uFillTx/>
                <a:latin typeface="Arial Black"/>
              </a:rPr>
              <a:t>Сельское население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льское расселение возникло с развитием земледелия. В настоящее время более половины населения мира живет в сельской местности. Сельских населенных пунктов насчитывается 15-20 млн. Они различны по величине, форме, специализации хозяй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ют две формы сельского рассел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рупповая (деревенская) - наиболее характерна для стран Центральной и Южной Европы, России, Японии, а также для большинства развивающихся стран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еянная (ферма) - наиболее распространены в США, Канаде, Австралии, странах Северной Европ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районах кочевого скотоводства постоянные поселения вообще отсутству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c5bc"/>
                </a:solidFill>
                <a:latin typeface="Arial Black"/>
              </a:rPr>
              <a:t>          </a:t>
            </a:r>
            <a:r>
              <a:rPr b="1" i="1" lang="en-US" sz="3200" spc="-1" strike="noStrike" u="sng">
                <a:solidFill>
                  <a:srgbClr val="fac5bc"/>
                </a:solidFill>
                <a:uFillTx/>
                <a:latin typeface="Arial Black"/>
              </a:rPr>
              <a:t>Городское население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родское расселение. Города возникли в древности в междуречье Тигра и Евфрата, а затем в низовьях и дельте Нила как центры административной власти, торговли и ремесла. С развитием индустрии в них концентрировалось промышленное производство, формировалась инфраструктура, развивались транспортные связи. Города постепенно становились центрами притяжения для всей окружающей территории, возрастала их роль в территориальной организации хозяйства. Сегодня функции крупных городов расширились. Они являются промышленными, культурными, научными, административными центрами, транспортными узлами. Большинство городов - многофункциональные. Однако есть города, имеющие "специализацию", - однофункциональные. К ним относятся горнопромышленные центры, города-курорты, научные центры, некоторые столиц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ределение города в разных странах различно. Например, в США городом считается поселение свыше 2,5 тыс. человек, в Индии - свыше 5 тыс., Нидерландах - 20 тыс., Японии - 30 тыс., а в Швеции, Дании, Финляндии - лишь более 200 человек. В России учитывается не только число жителей, но и показатель занятости населения (промышленность, сфера обслуживания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настоящее время размещение населения все более определяется географией городов, они постепенно становятся основной формой расселения люд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 Black"/>
              </a:rPr>
              <a:t>Жизнедеятельность населения в условиях урбанизаци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примере России урбанизация рассматривается как решающий фактор развития цивилизации и размещения населения на Земле. Показано расслоение городского населения, влияющее на демографическую и социальную структуру жителей города, мораль и ценностные ориентации. Рассмотрено влияние урбанизации (всегда сопровождающейся жилищным кризисом в городах) на среду обитания населения. Показаны основные отрицательные факторы урбанизации: экологические проблемы (загрязнение городской среды, рост плотности застройки, уменьшение площади зеленых насаждений и др.), деструктивное влияние на человека (здоровье, эмоциональный дискомфорт и стресс у жителей, психические перегрузки, приводящие человека к отчуждению от городской среды). Рассмотрена возможность будущей дезурбанизации за счет развития средств связи, телекоммуникаций и интерн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еномен урбанизации имеет как положительные так и отрицательные моменты; Частные и региональные проблемы вполне решаемы при современном развитии науки и техники, но трудно разрешимы с позиции политики, законодательства и экономики. Добрая воля и активная жизненная позиция людей способна подвигнуть решение многих пробл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временные уровни энергообеспечения и представленные альтернативные источники не способны решить современные потребности человечества в энергии. Тому было много примеров. Наиболее актуальным путём является активный поиск новейших технологий утилизации прямых и опосредованных энергий Солнца. За этим стоит будущее энергетики. Атомная энергетика не должна быть главенствующей, т. к. несет в себе много негативных последств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современном уровне потребления ёмкость нашей среды подходит к рубежной планке. Природа имеет свои рычаги самосохранения и человечество ждут серьёзные испытания. Один из путей решения этой проблемы - переход на ресурсосберегающие технологии, создание государственных программ по демографии, поиск альтернативных источников сырья и энерг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533520"/>
            <a:ext cx="815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банизация и климатические изменения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блема урбанизации стала для жителей Земли злободневной. Человечество достигло в своем развитии такого уровня потребления ресурсов и энергии, что экосистема планеты Земля может не выдержать такого давл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бы не случилось катастрофы, люди должны успеть урегулировать отношения планета - человек. Человек - это вид биологический и социальны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особ его существования на Земле - общество и сообщество. Люди живут в посёлках, малых и больших городах. Стремление к скоплению тоже не должно быть бесконечным. Если обратить внимание на график кривой нормального распределения, который описывает закон оптимума, то будет понятно, что, увеличение населения на ограниченных территориях приведёт к критическим условиям. Гиперконцентрация населения в крупных городах и мегаполисах свидетельствует о том, что ситуация уже носит критический характер, т. к. ресурсов и энергии явно на всех не хватает. Выход из этой ситуации нужно искать всем вместе. Работы секций нам осветят частные проблемы и пути их реш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447920" y="838080"/>
            <a:ext cx="6124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банизация и ее проблем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род представляет собой особый мир, особую среду обитания человека - городскую среду. Это сложное образование, продукт взаимодействия природы и человеческой деятельности. Расширяясь, города сливаются друг с другом, образуя агломерации. В результате чрезмерного разрастания городских агломераций появились гиперурбанизированные районы, которые известны как мегаполис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заимосвязь всех компонентов и явлений городской среды позволяет говорить о ней как об урбосистеме. Урбоэкосистемы соотносятся с конкретным местом в географическом пространстве. В жизни урбосистемы велика роль временного фактора. Урбосистемы - это системы открытые, вероятноятные, управляемые. Важной особенностью урбосистем является их антропоцентр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родские экосистемы гетеротрофны, т. к. доля солнечной энергии, фиксированная городскими растениями или солнечными батареями, расположенными на крышах домов, незначительна. Основные источники энергии для жизни города - это сжигаемые органические энергоносители (нефть, газ, уголь), а также гидро- и атомные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электростанци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ша</dc:creator>
  <dc:description/>
  <dc:language>en-US</dc:language>
  <cp:lastModifiedBy>Admin</cp:lastModifiedBy>
  <dcterms:modified xsi:type="dcterms:W3CDTF">2009-12-24T23:32:1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